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672-1E10-4717-A5D3-2B9AC947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BCFE-0C5A-46E4-ABBC-7DA1DB668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198D-7F12-4C6A-BB0A-0D525C374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F2B6-3ED3-4D73-B9FB-7F461F12A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0E04-E5A5-4E33-A4A4-A0A0D4939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81A-3B14-45D5-B29F-45A6186A4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B7A-5497-4E6D-BBB6-3377287F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01F-FF19-47C2-B514-37FD90E8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9E7-8C75-4CBE-9A77-ECD4B1E6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097-82EF-49FD-BFCA-0573523D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EAF-AAA1-43E7-8830-67DFAA1AE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4280-2D92-483E-BA6F-70458965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1148-CFCF-4C89-923D-BD47D63AF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16524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 tomorr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9840" y="946080"/>
            <a:ext cx="5708520" cy="27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.1 Polynomial Fun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degree odd/eve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eading coeff. +/-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end behavio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# real zer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8000" y="193680"/>
            <a:ext cx="7232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2 Graph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 calc to find zeros, rel. max, and rel. m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3 Quadratic Techn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-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4320" y="146160"/>
            <a:ext cx="702288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.4 Factor and Remainder Th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ynthetic substitution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 proble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.5 Roots and Zer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und. thm. of algebr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omplex conjugate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write equation, given the roo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88920" y="250920"/>
            <a:ext cx="6356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6 Rational Zero th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's and q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uble roo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tant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7 Operations on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 - x </a:t>
            </a:r>
            <a:r>
              <a:rPr b="0" lang="en-US" sz="36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155520"/>
            <a:ext cx="5765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8 Inverse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i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w it is the i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 the i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.9 Square Root Functions and Ine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 (table of valu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ain and 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89080" y="460440"/>
            <a:ext cx="50799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40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-13, 16-2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4-7 use calc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16, 17 find all roots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ketch the inverse of #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Graph y = (x+2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 - 3 and its invers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6T20:30:59Z</dcterms:created>
  <dc:creator>udsd</dc:creator>
  <dc:description/>
  <dc:language>en-US</dc:language>
  <cp:lastModifiedBy>udsd</cp:lastModifiedBy>
  <dcterms:modified xsi:type="dcterms:W3CDTF">2009-02-26T20:30:59Z</dcterms:modified>
  <cp:revision>1</cp:revision>
  <dc:subject/>
  <dc:title>Slide 1</dc:title>
</cp:coreProperties>
</file>